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4.png" ContentType="image/png"/>
  <Override PartName="/ppt/media/image1.gif" ContentType="image/gif"/>
  <Override PartName="/ppt/media/image3.png" ContentType="image/png"/>
  <Override PartName="/ppt/media/image11.png" ContentType="image/png"/>
  <Override PartName="/ppt/media/image24.png" ContentType="image/png"/>
  <Override PartName="/ppt/media/image23.png" ContentType="image/png"/>
  <Override PartName="/ppt/media/image6.png" ContentType="image/png"/>
  <Override PartName="/ppt/media/image22.png" ContentType="image/png"/>
  <Override PartName="/ppt/media/image10.png" ContentType="image/png"/>
  <Override PartName="/ppt/media/image2.gif" ContentType="image/gif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D794-1AEE-4AE8-B1EA-77DFC85482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C9A5-DAD5-40FA-99CD-5E1A65CFF3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6721-B88F-4FAC-9E77-53E36D9777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7072-58DB-4369-AC0C-578F95A8E6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0947-77C4-4F12-8DD1-676F4C595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D5E1-CEAB-49BC-9CC9-6A9338A8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573A-431A-4A38-A862-D2E44A233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DF8B-9312-4D9F-A8EC-111BC858F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A54C-5359-4190-BEE5-E8A7FB54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9F11-F7EC-4D8D-A9C1-4CC14CEB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3678-D07E-4BDC-BD11-D38624B7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C3D2-65EE-41B6-A7A2-6CD0FFB8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E9CD-4DD5-4833-B07C-60A6FF9D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52D7-B548-4499-8CBC-196D93C7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20A6-7C8B-450D-BEC8-BE09CC26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05E6-BF4D-48BA-A3A8-00E2EA6C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44B6-02D7-4A52-B505-BAC685C1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9964-72F1-4F52-B279-5123C318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FD23-C62E-414A-85A5-B8FFD6A6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AFF4-9B24-4515-B007-FEBA5F981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8DA3-057A-418E-8C8B-324FB0DF8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C136A-3C49-434E-A613-1AAB8B91F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8F032-1B0B-4D4C-8FD6-59E3F22F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80A1E-5C51-40C1-9C0C-11A402DB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0CCA8-2A51-4D6C-AC3B-54EC6518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EB883-2D1E-4D5C-A02B-CCF404A7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C77B-4ED8-4ED7-B16C-F6BE36FA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3242D-6CB6-486F-93AE-B3ADD600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428C1-DB38-4220-AF1B-14422E45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43FFD-F678-465E-8CF5-DD13AFFB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A83A2-7C5A-4926-BE76-53132555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461DD-0EB5-407B-811E-ABF3FACF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C6B56-CB15-4D74-A364-7B838AE83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5AA6B-E224-4222-9F16-1CF232FEE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717A-E0E5-45CD-8C02-07DDA802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E658-3752-4C32-86F2-BD8DC39E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8DF3-B11A-4AB4-A52F-88D7A8A7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7D8C-A50E-4493-AF86-F8BC55EA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0B1F-C7E2-4569-B756-EEDC8625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CB33-D41E-43D7-A7EE-EBE04BF9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FF95-DEE3-4D11-AF26-057EEADEC86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e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b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b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b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b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b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b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b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b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b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b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b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e7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e7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b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b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b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b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b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b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b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b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b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33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2B66-CA36-4DC6-9E9C-F247DC35947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e7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e7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2547-926E-48DC-ABF2-55E821197801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5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3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2895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33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e701"/>
                </a:solidFill>
                <a:latin typeface="Comic Sans MS"/>
              </a:rPr>
              <a:t>Психолого-педагогические основы развития графических умений </a:t>
            </a:r>
            <a:br>
              <a:rPr sz="4000"/>
            </a:br>
            <a:r>
              <a:rPr b="1" lang="ru-RU" sz="4000" spc="-1" strike="noStrike">
                <a:solidFill>
                  <a:srgbClr val="ffe701"/>
                </a:solidFill>
                <a:latin typeface="Comic Sans MS"/>
              </a:rPr>
              <a:t>у детей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3352680" y="5819760"/>
            <a:ext cx="50292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omic Sans MS"/>
              </a:rPr>
              <a:t>Презентацию подготовила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 algn="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omic Sans MS"/>
              </a:rPr>
              <a:t>М.А. Габова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 algn="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omic Sans MS"/>
              </a:rPr>
              <a:t>кандидат пед. наук, доцент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30492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Tahoma"/>
              </a:rPr>
              <a:t>Графика в ДО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D3FB-FB0E-4DB6-BF39-B2A8E30F474F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Comic Sans MS"/>
              </a:rPr>
              <a:t>Графические изображения – </a:t>
            </a:r>
            <a:br>
              <a:rPr sz="3200"/>
            </a:br>
            <a:r>
              <a:rPr b="1" lang="ru-RU" sz="3200" spc="-1" strike="noStrike">
                <a:solidFill>
                  <a:srgbClr val="ff00ff"/>
                </a:solidFill>
                <a:latin typeface="Comic Sans MS"/>
              </a:rPr>
              <a:t>что это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700360" y="1874880"/>
            <a:ext cx="2079720" cy="15541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68360" y="1784520"/>
            <a:ext cx="2087640" cy="16444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324000" y="3645000"/>
            <a:ext cx="3168360" cy="2330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867280" y="4365720"/>
            <a:ext cx="2971800" cy="19922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3800520" y="4221000"/>
            <a:ext cx="1542960" cy="1764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5148360" y="1557360"/>
            <a:ext cx="3454200" cy="214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F2F8-A05F-4366-99E4-FF1D42E49F64}" type="slidenum">
              <a:t>10</a:t>
            </a:fld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500"/>
                            </p:stCondLst>
                            <p:childTnLst>
                              <p:par>
                                <p:cTn id="53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500"/>
                            </p:stCondLst>
                            <p:childTnLst>
                              <p:par>
                                <p:cTn id="5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3500"/>
                            </p:stCondLst>
                            <p:childTnLst>
                              <p:par>
                                <p:cTn id="5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4500"/>
                            </p:stCondLst>
                            <p:childTnLst>
                              <p:par>
                                <p:cTn id="55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500"/>
                            </p:stCondLst>
                            <p:childTnLst>
                              <p:par>
                                <p:cTn id="56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58880" y="333000"/>
            <a:ext cx="83851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Comic Sans MS"/>
              </a:rPr>
              <a:t>Графические изображения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250920" y="3860640"/>
            <a:ext cx="3168720" cy="2594160"/>
          </a:xfrm>
          <a:prstGeom prst="flowChartPunchedTap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6676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omic Sans MS"/>
              </a:rPr>
              <a:t>Основа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264960">
              <a:lnSpc>
                <a:spcPct val="100000"/>
              </a:lnSpc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Штрих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264960">
              <a:lnSpc>
                <a:spcPct val="100000"/>
              </a:lnSpc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Точк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264960">
              <a:lnSpc>
                <a:spcPct val="100000"/>
              </a:lnSpc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Лин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95640" y="1484280"/>
            <a:ext cx="4608360" cy="4465800"/>
          </a:xfrm>
          <a:prstGeom prst="flowChartPunchedTap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82440" indent="282600">
              <a:lnSpc>
                <a:spcPct val="100000"/>
              </a:lnSpc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от руки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2440" indent="282600">
              <a:lnSpc>
                <a:spcPct val="100000"/>
              </a:lnSpc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при помощ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2440" indent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графических          инструментов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2440" indent="282600">
              <a:lnSpc>
                <a:spcPct val="100000"/>
              </a:lnSpc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средствами компьютерной графи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2440" indent="282600">
              <a:lnSpc>
                <a:spcPct val="100000"/>
              </a:lnSpc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типографски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2440" indent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способ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2440" indent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0" y="206064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omic Sans MS"/>
              </a:rPr>
              <a:t>Способ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omic Sans MS"/>
              </a:rPr>
              <a:t>получени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43280" y="765000"/>
            <a:ext cx="4284720" cy="3240360"/>
          </a:xfrm>
          <a:prstGeom prst="flowChartPunchedTap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образнос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символичнос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компактнос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относительная легкос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прочт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32720" y="105264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omic Sans MS"/>
              </a:rPr>
              <a:t>Характерны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omic Sans MS"/>
              </a:rPr>
              <a:t>качества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94ABB-D4D2-49C6-BBC9-74C9A534524C}" type="slidenum">
              <a:t>11</a:t>
            </a:fld>
          </a:p>
        </p:txBody>
      </p:sp>
    </p:spTree>
  </p:cSld>
  <p:transition>
    <p:comb dir="horz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2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583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8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599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4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615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0" y="0"/>
            <a:ext cx="9144360" cy="6451920"/>
            <a:chOff x="0" y="0"/>
            <a:chExt cx="9144360" cy="6451920"/>
          </a:xfrm>
        </p:grpSpPr>
        <p:cxnSp>
          <p:nvCxnSpPr>
            <p:cNvPr id="276" name="_s38916"/>
            <p:cNvCxnSpPr>
              <a:stCxn id="277" idx="0"/>
              <a:endCxn id="278" idx="2"/>
            </p:cNvCxnSpPr>
            <p:nvPr/>
          </p:nvCxnSpPr>
          <p:spPr>
            <a:xfrm flipV="1">
              <a:off x="7167240" y="1839600"/>
              <a:ext cx="5760" cy="42577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79" name="_s38917"/>
            <p:cNvCxnSpPr>
              <a:stCxn id="280" idx="0"/>
              <a:endCxn id="278" idx="2"/>
            </p:cNvCxnSpPr>
            <p:nvPr/>
          </p:nvCxnSpPr>
          <p:spPr>
            <a:xfrm flipV="1">
              <a:off x="7167240" y="1838880"/>
              <a:ext cx="5760" cy="37472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81" name="_s38918"/>
            <p:cNvCxnSpPr>
              <a:stCxn id="282" idx="0"/>
              <a:endCxn id="278" idx="2"/>
            </p:cNvCxnSpPr>
            <p:nvPr/>
          </p:nvCxnSpPr>
          <p:spPr>
            <a:xfrm flipV="1">
              <a:off x="7167240" y="1839240"/>
              <a:ext cx="5760" cy="31795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83" name="_s38919"/>
            <p:cNvCxnSpPr>
              <a:stCxn id="284" idx="0"/>
              <a:endCxn id="285" idx="2"/>
            </p:cNvCxnSpPr>
            <p:nvPr/>
          </p:nvCxnSpPr>
          <p:spPr>
            <a:xfrm flipV="1">
              <a:off x="1976760" y="1849680"/>
              <a:ext cx="4680" cy="13640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86" name="_s38920"/>
            <p:cNvCxnSpPr>
              <a:stCxn id="287" idx="0"/>
              <a:endCxn id="278" idx="2"/>
            </p:cNvCxnSpPr>
            <p:nvPr/>
          </p:nvCxnSpPr>
          <p:spPr>
            <a:xfrm flipV="1">
              <a:off x="7167240" y="1838880"/>
              <a:ext cx="5760" cy="266868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88" name="_s38921"/>
            <p:cNvCxnSpPr>
              <a:stCxn id="289" idx="0"/>
              <a:endCxn id="278" idx="2"/>
            </p:cNvCxnSpPr>
            <p:nvPr/>
          </p:nvCxnSpPr>
          <p:spPr>
            <a:xfrm flipV="1">
              <a:off x="7167240" y="1839240"/>
              <a:ext cx="5760" cy="219528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90" name="_s38922"/>
            <p:cNvCxnSpPr>
              <a:stCxn id="291" idx="0"/>
              <a:endCxn id="278" idx="2"/>
            </p:cNvCxnSpPr>
            <p:nvPr/>
          </p:nvCxnSpPr>
          <p:spPr>
            <a:xfrm flipV="1">
              <a:off x="7167240" y="1838880"/>
              <a:ext cx="5760" cy="16599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92" name="_s38923"/>
            <p:cNvCxnSpPr>
              <a:stCxn id="293" idx="0"/>
              <a:endCxn id="278" idx="2"/>
            </p:cNvCxnSpPr>
            <p:nvPr/>
          </p:nvCxnSpPr>
          <p:spPr>
            <a:xfrm flipV="1">
              <a:off x="7167240" y="1838880"/>
              <a:ext cx="5760" cy="11624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94" name="_s38924"/>
            <p:cNvCxnSpPr>
              <a:stCxn id="295" idx="0"/>
              <a:endCxn id="278" idx="2"/>
            </p:cNvCxnSpPr>
            <p:nvPr/>
          </p:nvCxnSpPr>
          <p:spPr>
            <a:xfrm flipV="1">
              <a:off x="7167240" y="1839240"/>
              <a:ext cx="5760" cy="65088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96" name="_s38925"/>
            <p:cNvCxnSpPr>
              <a:stCxn id="297" idx="0"/>
              <a:endCxn id="278" idx="2"/>
            </p:cNvCxnSpPr>
            <p:nvPr/>
          </p:nvCxnSpPr>
          <p:spPr>
            <a:xfrm flipV="1">
              <a:off x="7167240" y="1839240"/>
              <a:ext cx="5760" cy="1533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98" name="_s38926"/>
            <p:cNvCxnSpPr>
              <a:stCxn id="299" idx="0"/>
              <a:endCxn id="285" idx="2"/>
            </p:cNvCxnSpPr>
            <p:nvPr/>
          </p:nvCxnSpPr>
          <p:spPr>
            <a:xfrm flipV="1">
              <a:off x="1976760" y="1849680"/>
              <a:ext cx="4680" cy="23029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00" name="_s38927"/>
            <p:cNvCxnSpPr>
              <a:stCxn id="301" idx="0"/>
              <a:endCxn id="285" idx="2"/>
            </p:cNvCxnSpPr>
            <p:nvPr/>
          </p:nvCxnSpPr>
          <p:spPr>
            <a:xfrm flipV="1">
              <a:off x="1976760" y="1850040"/>
              <a:ext cx="4680" cy="31687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02" name="_s38928"/>
            <p:cNvCxnSpPr>
              <a:stCxn id="303" idx="0"/>
              <a:endCxn id="285" idx="2"/>
            </p:cNvCxnSpPr>
            <p:nvPr/>
          </p:nvCxnSpPr>
          <p:spPr>
            <a:xfrm flipH="1" flipV="1" rot="5400000">
              <a:off x="1725480" y="2096280"/>
              <a:ext cx="498240" cy="5760"/>
            </a:xfrm>
            <a:prstGeom prst="bentConnector3">
              <a:avLst>
                <a:gd name="adj1" fmla="val 22921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04" name="_s38929"/>
            <p:cNvCxnSpPr>
              <a:stCxn id="278" idx="0"/>
              <a:endCxn id="305" idx="2"/>
            </p:cNvCxnSpPr>
            <p:nvPr/>
          </p:nvCxnSpPr>
          <p:spPr>
            <a:xfrm flipV="1" rot="16200000">
              <a:off x="5610960" y="-357120"/>
              <a:ext cx="511560" cy="2600640"/>
            </a:xfrm>
            <a:prstGeom prst="bentConnector3">
              <a:avLst>
                <a:gd name="adj1" fmla="val 22323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06" name="_s38930"/>
            <p:cNvCxnSpPr>
              <a:stCxn id="285" idx="0"/>
              <a:endCxn id="305" idx="2"/>
            </p:cNvCxnSpPr>
            <p:nvPr/>
          </p:nvCxnSpPr>
          <p:spPr>
            <a:xfrm flipH="1" flipV="1" rot="5400000">
              <a:off x="3016080" y="-351720"/>
              <a:ext cx="511560" cy="2590200"/>
            </a:xfrm>
            <a:prstGeom prst="bentConnector3">
              <a:avLst>
                <a:gd name="adj1" fmla="val 22323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305" name="_s38931"/>
            <p:cNvSpPr/>
            <p:nvPr/>
          </p:nvSpPr>
          <p:spPr>
            <a:xfrm>
              <a:off x="2338560" y="0"/>
              <a:ext cx="4462200" cy="688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Comic Sans MS"/>
                </a:rPr>
                <a:t>Графические изображени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_s38932"/>
            <p:cNvSpPr/>
            <p:nvPr/>
          </p:nvSpPr>
          <p:spPr>
            <a:xfrm>
              <a:off x="0" y="1199520"/>
              <a:ext cx="3954600" cy="650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66"/>
                  </a:solidFill>
                  <a:latin typeface="Comic Sans MS"/>
                </a:rPr>
                <a:t>Изображения плоских (двумерных) объектов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_s38933"/>
            <p:cNvSpPr/>
            <p:nvPr/>
          </p:nvSpPr>
          <p:spPr>
            <a:xfrm>
              <a:off x="5189760" y="1199520"/>
              <a:ext cx="3954600" cy="640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9"/>
                  </a:solidFill>
                  <a:latin typeface="Comic Sans MS"/>
                </a:rPr>
                <a:t>Изображения объемных (трехмерных) объектов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_s38934"/>
            <p:cNvSpPr/>
            <p:nvPr/>
          </p:nvSpPr>
          <p:spPr>
            <a:xfrm>
              <a:off x="0" y="2347920"/>
              <a:ext cx="3949200" cy="451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3366"/>
                  </a:solidFill>
                  <a:latin typeface="Comic Sans MS"/>
                </a:rPr>
                <a:t>Схем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_s38935"/>
            <p:cNvSpPr/>
            <p:nvPr/>
          </p:nvSpPr>
          <p:spPr>
            <a:xfrm>
              <a:off x="0" y="5018400"/>
              <a:ext cx="3954600" cy="42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3366"/>
                  </a:solidFill>
                  <a:latin typeface="Comic Sans MS"/>
                </a:rPr>
                <a:t>Диаграмм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_s38936"/>
            <p:cNvSpPr/>
            <p:nvPr/>
          </p:nvSpPr>
          <p:spPr>
            <a:xfrm>
              <a:off x="0" y="4152600"/>
              <a:ext cx="3954600" cy="427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3366"/>
                  </a:solidFill>
                  <a:latin typeface="Comic Sans MS"/>
                </a:rPr>
                <a:t>График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_s38937"/>
            <p:cNvSpPr/>
            <p:nvPr/>
          </p:nvSpPr>
          <p:spPr>
            <a:xfrm>
              <a:off x="5189760" y="1992600"/>
              <a:ext cx="3954600" cy="427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3366"/>
                  </a:solidFill>
                  <a:latin typeface="Comic Sans MS"/>
                </a:rPr>
                <a:t>Рисунок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_s38938"/>
            <p:cNvSpPr/>
            <p:nvPr/>
          </p:nvSpPr>
          <p:spPr>
            <a:xfrm>
              <a:off x="5189760" y="2490480"/>
              <a:ext cx="3954600" cy="368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3366"/>
                  </a:solidFill>
                  <a:latin typeface="Comic Sans MS"/>
                </a:rPr>
                <a:t>Чертеж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_s38939"/>
            <p:cNvSpPr/>
            <p:nvPr/>
          </p:nvSpPr>
          <p:spPr>
            <a:xfrm>
              <a:off x="5189760" y="3001320"/>
              <a:ext cx="3954600" cy="368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3366"/>
                  </a:solidFill>
                  <a:latin typeface="Comic Sans MS"/>
                </a:rPr>
                <a:t>Наглядное изображение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_s38940"/>
            <p:cNvSpPr/>
            <p:nvPr/>
          </p:nvSpPr>
          <p:spPr>
            <a:xfrm>
              <a:off x="5189760" y="3498840"/>
              <a:ext cx="3954600" cy="368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3366"/>
                  </a:solidFill>
                  <a:latin typeface="Comic Sans MS"/>
                </a:rPr>
                <a:t>Технический рисунок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_s38941"/>
            <p:cNvSpPr/>
            <p:nvPr/>
          </p:nvSpPr>
          <p:spPr>
            <a:xfrm>
              <a:off x="5189760" y="4034160"/>
              <a:ext cx="3954600" cy="354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3366"/>
                  </a:solidFill>
                  <a:latin typeface="Comic Sans MS"/>
                </a:rPr>
                <a:t>Эскиз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_s38942"/>
            <p:cNvSpPr/>
            <p:nvPr/>
          </p:nvSpPr>
          <p:spPr>
            <a:xfrm>
              <a:off x="5189760" y="4507560"/>
              <a:ext cx="3954600" cy="354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3366"/>
                  </a:solidFill>
                  <a:latin typeface="Comic Sans MS"/>
                </a:rPr>
                <a:t>Сборочный чертеж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_s38943"/>
            <p:cNvSpPr/>
            <p:nvPr/>
          </p:nvSpPr>
          <p:spPr>
            <a:xfrm>
              <a:off x="0" y="3213720"/>
              <a:ext cx="3954600" cy="427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3366"/>
                  </a:solidFill>
                  <a:latin typeface="Comic Sans MS"/>
                </a:rPr>
                <a:t>Чертеж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_s38944"/>
            <p:cNvSpPr/>
            <p:nvPr/>
          </p:nvSpPr>
          <p:spPr>
            <a:xfrm>
              <a:off x="5189760" y="5018400"/>
              <a:ext cx="3954600" cy="354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3366"/>
                  </a:solidFill>
                  <a:latin typeface="Comic Sans MS"/>
                </a:rPr>
                <a:t>Развертк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_s38945"/>
            <p:cNvSpPr/>
            <p:nvPr/>
          </p:nvSpPr>
          <p:spPr>
            <a:xfrm>
              <a:off x="5189760" y="5586120"/>
              <a:ext cx="3954600" cy="357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3366"/>
                  </a:solidFill>
                  <a:latin typeface="Comic Sans MS"/>
                </a:rPr>
                <a:t>Карт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_s38946"/>
            <p:cNvSpPr/>
            <p:nvPr/>
          </p:nvSpPr>
          <p:spPr>
            <a:xfrm>
              <a:off x="5189760" y="6096960"/>
              <a:ext cx="3954600" cy="354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3366"/>
                  </a:solidFill>
                  <a:latin typeface="Comic Sans MS"/>
                </a:rPr>
                <a:t>Пла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10648-07E7-421C-89D2-2061D7FB794D}" type="slidenum">
              <a:t>12</a:t>
            </a:fld>
          </a:p>
        </p:txBody>
      </p:sp>
    </p:spTree>
  </p:cSld>
  <p:transition>
    <p:cover dir="d"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800"/>
                            </p:stCondLst>
                            <p:childTnLst>
                              <p:par>
                                <p:cTn id="6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4000"/>
                            </p:stCondLst>
                            <p:childTnLst>
                              <p:par>
                                <p:cTn id="6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250"/>
                            </p:stCondLst>
                            <p:childTnLst>
                              <p:par>
                                <p:cTn id="6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6500"/>
                            </p:stCondLst>
                            <p:childTnLst>
                              <p:par>
                                <p:cTn id="65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900"/>
                            </p:stCondLst>
                            <p:childTnLst>
                              <p:par>
                                <p:cTn id="6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4200"/>
                            </p:stCondLst>
                            <p:childTnLst>
                              <p:par>
                                <p:cTn id="6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450"/>
                            </p:stCondLst>
                            <p:childTnLst>
                              <p:par>
                                <p:cTn id="68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7400"/>
                            </p:stCondLst>
                            <p:childTnLst>
                              <p:par>
                                <p:cTn id="69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9250"/>
                            </p:stCondLst>
                            <p:childTnLst>
                              <p:par>
                                <p:cTn id="69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450"/>
                            </p:stCondLst>
                            <p:childTnLst>
                              <p:par>
                                <p:cTn id="70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2150"/>
                            </p:stCondLst>
                            <p:childTnLst>
                              <p:par>
                                <p:cTn id="71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3550"/>
                            </p:stCondLst>
                            <p:childTnLst>
                              <p:par>
                                <p:cTn id="7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4750"/>
                            </p:stCondLst>
                            <p:childTnLst>
                              <p:par>
                                <p:cTn id="7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2209680" y="380520"/>
            <a:ext cx="3600720" cy="2519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ff"/>
                </a:solidFill>
                <a:latin typeface="Comic Sans MS"/>
              </a:rPr>
              <a:t>Схема –</a:t>
            </a:r>
            <a:r>
              <a:rPr b="1" i="1" lang="ru-RU" sz="2200" spc="-1" strike="noStrike">
                <a:solidFill>
                  <a:srgbClr val="66ccff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Comic Sans MS"/>
              </a:rPr>
              <a:t>упрощенное (условное) изображение взаимного расположения частей чего-либо целого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1863720" cy="1944720"/>
          </a:xfrm>
          <a:prstGeom prst="rect">
            <a:avLst/>
          </a:prstGeom>
          <a:ln w="28440">
            <a:solidFill>
              <a:srgbClr val="660066"/>
            </a:solidFill>
            <a:prstDash val="sysDot"/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867280" y="404640"/>
            <a:ext cx="3276720" cy="2318040"/>
          </a:xfrm>
          <a:prstGeom prst="rect">
            <a:avLst/>
          </a:prstGeom>
          <a:ln w="28440">
            <a:solidFill>
              <a:srgbClr val="660066"/>
            </a:solidFill>
            <a:prstDash val="sysDot"/>
            <a:miter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179280" y="3500280"/>
            <a:ext cx="1927440" cy="2305080"/>
          </a:xfrm>
          <a:prstGeom prst="rect">
            <a:avLst/>
          </a:prstGeom>
          <a:ln w="28440">
            <a:solidFill>
              <a:srgbClr val="660066"/>
            </a:solidFill>
            <a:prstDash val="sysDot"/>
            <a:miter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5940360" y="3068640"/>
            <a:ext cx="2868840" cy="3573360"/>
          </a:xfrm>
          <a:prstGeom prst="rect">
            <a:avLst/>
          </a:prstGeom>
          <a:ln w="28440">
            <a:solidFill>
              <a:srgbClr val="660066"/>
            </a:solidFill>
            <a:prstDash val="sysDot"/>
            <a:miter/>
          </a:ln>
        </p:spPr>
      </p:pic>
      <p:sp>
        <p:nvSpPr>
          <p:cNvPr id="312" name=""/>
          <p:cNvSpPr/>
          <p:nvPr/>
        </p:nvSpPr>
        <p:spPr>
          <a:xfrm>
            <a:off x="2209680" y="2666880"/>
            <a:ext cx="3600720" cy="4451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ff"/>
                </a:solidFill>
                <a:latin typeface="Comic Sans MS"/>
              </a:rPr>
              <a:t>Чертеж –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Comic Sans MS"/>
              </a:rPr>
              <a:t>графический документ, выполненный по определенным правилам с помощью чертежных инструментов и содержащий все основные сведения об изделии (наименование, форма, размеры и т.п.)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D0849-F8BE-4135-AC90-26C70BA68DFE}" type="slidenum">
              <a:t>13</a:t>
            </a:fld>
          </a:p>
        </p:txBody>
      </p:sp>
    </p:spTree>
  </p:cSld>
  <p:transition>
    <p:cover dir="lu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000"/>
                            </p:stCondLst>
                            <p:childTnLst>
                              <p:par>
                                <p:cTn id="7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5940000" y="685440"/>
            <a:ext cx="3203640" cy="371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ff"/>
                </a:solidFill>
                <a:latin typeface="Comic Sans MS"/>
              </a:rPr>
              <a:t>График -</a:t>
            </a:r>
            <a:r>
              <a:rPr b="0" lang="ru-RU" sz="2200" spc="-1" strike="noStrike">
                <a:solidFill>
                  <a:srgbClr val="003366"/>
                </a:solidFill>
                <a:latin typeface="Comic Sans MS"/>
              </a:rPr>
              <a:t> графическое изображение функциональной зависимости одной величины от другой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rcRect l="0" t="0" r="0" b="5092"/>
          <a:stretch/>
        </p:blipFill>
        <p:spPr>
          <a:xfrm>
            <a:off x="250920" y="260280"/>
            <a:ext cx="2808360" cy="2322720"/>
          </a:xfrm>
          <a:prstGeom prst="rect">
            <a:avLst/>
          </a:prstGeom>
          <a:ln w="28440">
            <a:solidFill>
              <a:srgbClr val="993366"/>
            </a:solidFill>
            <a:prstDash val="sysDot"/>
            <a:miter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3348000" y="260280"/>
            <a:ext cx="2160720" cy="2419560"/>
          </a:xfrm>
          <a:prstGeom prst="rect">
            <a:avLst/>
          </a:prstGeom>
          <a:ln w="28440">
            <a:solidFill>
              <a:srgbClr val="660066"/>
            </a:solidFill>
            <a:prstDash val="sysDot"/>
            <a:miter/>
          </a:ln>
        </p:spPr>
      </p:pic>
      <p:sp>
        <p:nvSpPr>
          <p:cNvPr id="316" name=""/>
          <p:cNvSpPr/>
          <p:nvPr/>
        </p:nvSpPr>
        <p:spPr>
          <a:xfrm>
            <a:off x="-1692360" y="134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3492360" y="3716280"/>
          <a:ext cx="2401920" cy="2521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3716280"/>
                    <a:ext cx="2401920" cy="2521080"/>
                  </a:xfrm>
                  <a:prstGeom prst="rect">
                    <a:avLst/>
                  </a:prstGeom>
                  <a:ln w="28440">
                    <a:solidFill>
                      <a:srgbClr val="660066"/>
                    </a:solidFill>
                    <a:prstDash val="sysDot"/>
                    <a:miter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0" y="244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0" y="3716280"/>
          <a:ext cx="3276720" cy="25210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716280"/>
                    <a:ext cx="3276720" cy="2521080"/>
                  </a:xfrm>
                  <a:prstGeom prst="rect">
                    <a:avLst/>
                  </a:prstGeom>
                  <a:ln w="28440">
                    <a:solidFill>
                      <a:srgbClr val="660066"/>
                    </a:solidFill>
                    <a:prstDash val="sysDot"/>
                    <a:miter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0" y="244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40360" y="3005280"/>
            <a:ext cx="3203640" cy="3548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ff"/>
                </a:solidFill>
                <a:latin typeface="Comic Sans MS"/>
              </a:rPr>
              <a:t>Диаграмма -</a:t>
            </a:r>
            <a:r>
              <a:rPr b="1" i="1" lang="ru-RU" sz="22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003366"/>
                </a:solidFill>
                <a:latin typeface="Comic Sans MS"/>
              </a:rPr>
              <a:t>графическое изображение соотношения между сравниваемыми величинами (не связанными функционально, а только по смыслу)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CE39C-97BC-4BEE-9C92-AD970D138F5D}" type="slidenum">
              <a:t>14</a:t>
            </a:fld>
          </a:p>
        </p:txBody>
      </p:sp>
    </p:spTree>
  </p:cSld>
  <p:transition>
    <p:cover dir="ru"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00"/>
                            </p:stCondLst>
                            <p:childTnLst>
                              <p:par>
                                <p:cTn id="7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8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8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3745080" cy="5218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ff"/>
                </a:solidFill>
                <a:latin typeface="Comic Sans MS"/>
              </a:rPr>
              <a:t>Наглядное изображение</a:t>
            </a:r>
            <a:r>
              <a:rPr b="0" lang="ru-RU" sz="2200" spc="-1" strike="noStrike">
                <a:solidFill>
                  <a:srgbClr val="ff00ff"/>
                </a:solidFill>
                <a:latin typeface="Comic Sans MS"/>
              </a:rPr>
              <a:t> -</a:t>
            </a:r>
            <a:r>
              <a:rPr b="0" lang="ru-RU" sz="2200" spc="-1" strike="noStrike">
                <a:solidFill>
                  <a:srgbClr val="003366"/>
                </a:solidFill>
                <a:latin typeface="Comic Sans MS"/>
              </a:rPr>
              <a:t> объемное изображение изделия (детали), выполненное по правилам черчения, (или аксонометрическая проекция: предмет показывается видимым одновременно с нескольких сторон, параллельные линии остаются параллельными)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4211640" y="189000"/>
            <a:ext cx="2232000" cy="1655640"/>
          </a:xfrm>
          <a:prstGeom prst="rect">
            <a:avLst/>
          </a:prstGeom>
          <a:ln w="28440">
            <a:solidFill>
              <a:srgbClr val="660066"/>
            </a:solidFill>
            <a:prstDash val="sysDot"/>
            <a:miter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211640" y="3683160"/>
            <a:ext cx="2376360" cy="1565280"/>
          </a:xfrm>
          <a:prstGeom prst="rect">
            <a:avLst/>
          </a:prstGeom>
          <a:ln w="28440">
            <a:solidFill>
              <a:srgbClr val="660066"/>
            </a:solidFill>
            <a:prstDash val="sysDot"/>
            <a:miter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6732720" y="165240"/>
            <a:ext cx="2160360" cy="1679400"/>
          </a:xfrm>
          <a:prstGeom prst="rect">
            <a:avLst/>
          </a:prstGeom>
          <a:ln w="28440">
            <a:solidFill>
              <a:srgbClr val="660066"/>
            </a:solidFill>
            <a:prstDash val="sysDot"/>
            <a:miter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7066080" y="3673440"/>
            <a:ext cx="1768320" cy="1571760"/>
          </a:xfrm>
          <a:prstGeom prst="rect">
            <a:avLst/>
          </a:prstGeom>
          <a:ln w="28440">
            <a:solidFill>
              <a:srgbClr val="660066"/>
            </a:solidFill>
            <a:prstDash val="sysDot"/>
            <a:miter/>
          </a:ln>
        </p:spPr>
      </p:pic>
      <p:pic>
        <p:nvPicPr>
          <p:cNvPr id="329" name="" descr=""/>
          <p:cNvPicPr/>
          <p:nvPr/>
        </p:nvPicPr>
        <p:blipFill>
          <a:blip r:embed="rId5"/>
          <a:stretch/>
        </p:blipFill>
        <p:spPr>
          <a:xfrm>
            <a:off x="5305320" y="1916280"/>
            <a:ext cx="2146320" cy="1655640"/>
          </a:xfrm>
          <a:prstGeom prst="rect">
            <a:avLst/>
          </a:prstGeom>
          <a:ln w="28440">
            <a:solidFill>
              <a:srgbClr val="660066"/>
            </a:solidFill>
            <a:prstDash val="sysDot"/>
            <a:miter/>
          </a:ln>
        </p:spPr>
      </p:pic>
      <p:pic>
        <p:nvPicPr>
          <p:cNvPr id="330" name="" descr=""/>
          <p:cNvPicPr/>
          <p:nvPr/>
        </p:nvPicPr>
        <p:blipFill>
          <a:blip r:embed="rId6"/>
          <a:stretch/>
        </p:blipFill>
        <p:spPr>
          <a:xfrm>
            <a:off x="5278320" y="5445000"/>
            <a:ext cx="2173320" cy="1224000"/>
          </a:xfrm>
          <a:prstGeom prst="rect">
            <a:avLst/>
          </a:prstGeom>
          <a:ln w="28440">
            <a:solidFill>
              <a:srgbClr val="660066"/>
            </a:solidFill>
            <a:prstDash val="sysDot"/>
            <a:miter/>
          </a:ln>
        </p:spPr>
      </p:pic>
      <p:sp>
        <p:nvSpPr>
          <p:cNvPr id="331" name=""/>
          <p:cNvSpPr/>
          <p:nvPr/>
        </p:nvSpPr>
        <p:spPr>
          <a:xfrm>
            <a:off x="228600" y="4876920"/>
            <a:ext cx="3755880" cy="1572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ff"/>
                </a:solidFill>
                <a:latin typeface="Comic Sans MS"/>
              </a:rPr>
              <a:t>Развертка</a:t>
            </a:r>
            <a:r>
              <a:rPr b="0" lang="ru-RU" sz="2200" spc="-1" strike="noStrike">
                <a:solidFill>
                  <a:srgbClr val="ff00ff"/>
                </a:solidFill>
                <a:latin typeface="Comic Sans MS"/>
              </a:rPr>
              <a:t> –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Comic Sans MS"/>
              </a:rPr>
              <a:t>чертеж (выкройка) детали, изготавливаемой из листового материала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407D9-C780-4AFC-AFFA-6269FBED68C6}" type="slidenum">
              <a:t>15</a:t>
            </a:fld>
          </a:p>
        </p:txBody>
      </p:sp>
    </p:spTree>
  </p:cSld>
  <p:transition>
    <p:dissolve/>
  </p:transition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500"/>
                            </p:stCondLst>
                            <p:childTnLst>
                              <p:par>
                                <p:cTn id="8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9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468000" y="333360"/>
            <a:ext cx="8366040" cy="574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ff"/>
                </a:solidFill>
                <a:latin typeface="Comic Sans MS"/>
              </a:rPr>
              <a:t>Карта</a:t>
            </a:r>
            <a:r>
              <a:rPr b="1" lang="ru-RU" sz="24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660066"/>
                </a:solidFill>
                <a:latin typeface="Comic Sans MS"/>
              </a:rPr>
              <a:t>(географическая, топографическая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700360" y="1052640"/>
            <a:ext cx="3056040" cy="21603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5003640" y="4005360"/>
            <a:ext cx="2759400" cy="25732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611280" y="3284640"/>
            <a:ext cx="82087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ff"/>
                </a:solidFill>
                <a:latin typeface="Comic Sans MS"/>
              </a:rPr>
              <a:t>План </a:t>
            </a:r>
            <a:r>
              <a:rPr b="1" i="1" lang="ru-RU" sz="2400" spc="-1" strike="noStrike">
                <a:solidFill>
                  <a:srgbClr val="660066"/>
                </a:solidFill>
                <a:latin typeface="Comic Sans MS"/>
              </a:rPr>
              <a:t>(топографический, строительный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1187280" y="3933720"/>
            <a:ext cx="2932200" cy="266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41E33-4962-40AC-BB6B-39305CA34B32}" type="slidenum">
              <a:t>16</a:t>
            </a:fld>
          </a:p>
        </p:txBody>
      </p:sp>
    </p:spTree>
  </p:cSld>
  <p:transition>
    <p:diamond/>
  </p:transition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1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391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Comic Sans MS"/>
              </a:rPr>
              <a:t>Основные графические операции </a:t>
            </a:r>
            <a:br>
              <a:rPr sz="2800"/>
            </a:br>
            <a:r>
              <a:rPr b="1" lang="ru-RU" sz="2800" spc="-1" strike="noStrike">
                <a:solidFill>
                  <a:srgbClr val="ff00ff"/>
                </a:solidFill>
                <a:latin typeface="Comic Sans MS"/>
              </a:rPr>
              <a:t>и графические инструменты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95280" y="1371600"/>
          <a:ext cx="8450280" cy="4689360"/>
        </p:xfrm>
        <a:graphic>
          <a:graphicData uri="http://schemas.openxmlformats.org/drawingml/2006/table">
            <a:tbl>
              <a:tblPr/>
              <a:tblGrid>
                <a:gridCol w="4226040"/>
                <a:gridCol w="42242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Построение прямых и ломаных лин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Построение окружностей</a:t>
                      </a:r>
                      <a:r>
                        <a:rPr b="1" lang="ru-RU" sz="24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Построение кривых линий</a:t>
                      </a:r>
                      <a:r>
                        <a:rPr b="1" lang="ru-RU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18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Измерение длин, угл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</a:tr>
            </a:tbl>
          </a:graphicData>
        </a:graphic>
      </p:graphicFrame>
      <p:sp>
        <p:nvSpPr>
          <p:cNvPr id="339" name=""/>
          <p:cNvSpPr/>
          <p:nvPr/>
        </p:nvSpPr>
        <p:spPr>
          <a:xfrm>
            <a:off x="5029200" y="144792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Comic Sans MS"/>
              </a:rPr>
              <a:t>Линей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Comic Sans MS"/>
              </a:rPr>
              <a:t>Рейсши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Comic Sans MS"/>
              </a:rPr>
              <a:t>Угольни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24382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Comic Sans MS"/>
              </a:rPr>
              <a:t>Циркуль </a:t>
            </a:r>
            <a:r>
              <a:rPr b="0" lang="ru-RU" sz="1800" spc="-1" strike="noStrike">
                <a:solidFill>
                  <a:srgbClr val="003366"/>
                </a:solidFill>
                <a:latin typeface="Comic Sans MS"/>
              </a:rPr>
              <a:t>чертежны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Comic Sans MS"/>
              </a:rPr>
              <a:t>Шаблоны, трафареты, лекал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029200" y="33526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Comic Sans MS"/>
              </a:rPr>
              <a:t>Шаблоны, трафареты, лекал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Comic Sans MS"/>
              </a:rPr>
              <a:t>Циркуль </a:t>
            </a:r>
            <a:r>
              <a:rPr b="0" lang="ru-RU" sz="1800" spc="-1" strike="noStrike">
                <a:solidFill>
                  <a:srgbClr val="003366"/>
                </a:solidFill>
                <a:latin typeface="Comic Sans MS"/>
              </a:rPr>
              <a:t>чертежны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4343400"/>
            <a:ext cx="386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Comic Sans MS"/>
              </a:rPr>
              <a:t>Циркуль </a:t>
            </a:r>
            <a:r>
              <a:rPr b="0" lang="ru-RU" sz="1800" spc="-1" strike="noStrike">
                <a:solidFill>
                  <a:srgbClr val="003366"/>
                </a:solidFill>
                <a:latin typeface="Comic Sans MS"/>
              </a:rPr>
              <a:t>разметочны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Comic Sans MS"/>
              </a:rPr>
              <a:t>Линей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Comic Sans MS"/>
              </a:rPr>
              <a:t>Рейсши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Comic Sans MS"/>
              </a:rPr>
              <a:t>Угольни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Comic Sans MS"/>
              </a:rPr>
              <a:t>Транспортир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696A-59E3-4CBC-8D24-10D0108C1176}" type="slidenum">
              <a:t>17</a:t>
            </a:fld>
          </a:p>
        </p:txBody>
      </p:sp>
    </p:spTree>
  </p:cSld>
  <p:transition spd="med">
    <p:strips dir="lu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8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Comic Sans MS"/>
              </a:rPr>
              <a:t>Пространственные представления</a:t>
            </a:r>
            <a:br>
              <a:rPr sz="2800"/>
            </a:br>
            <a:r>
              <a:rPr b="1" lang="ru-RU" sz="2800" spc="-1" strike="noStrike">
                <a:solidFill>
                  <a:srgbClr val="ff00ff"/>
                </a:solidFill>
                <a:latin typeface="Comic Sans MS"/>
              </a:rPr>
              <a:t> и пространственное мышление</a:t>
            </a:r>
            <a:endParaRPr b="0" lang="en-US" sz="28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240" y="5334120"/>
            <a:ext cx="8915400" cy="137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omic Sans MS"/>
              </a:rPr>
              <a:t>Пространственное мышление</a:t>
            </a:r>
            <a:r>
              <a:rPr b="0" i="1" lang="ru-RU" sz="2000" spc="-1" strike="noStrike">
                <a:solidFill>
                  <a:srgbClr val="003366"/>
                </a:solidFill>
                <a:latin typeface="Comic Sans MS"/>
              </a:rPr>
              <a:t> - 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разновидность образного мышления, заключается в создании пространственных образов, их перекодировании, мысленном оперировании ими в различных условиях пространственной ориентации, переходе от образов реальных объектов к их условно-графическим изображениям, от трехмерных изображений к двухмерным и обратно (И.С. Якиманская)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" y="1066680"/>
            <a:ext cx="8915400" cy="16185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omic Sans MS"/>
              </a:rPr>
              <a:t>Восприятие пространства</a:t>
            </a:r>
            <a:r>
              <a:rPr b="0" i="1" lang="ru-RU" sz="2000" spc="-1" strike="noStrike">
                <a:solidFill>
                  <a:srgbClr val="003366"/>
                </a:solidFill>
                <a:latin typeface="Comic Sans MS"/>
              </a:rPr>
              <a:t> - 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 отражение объективно существующего пространства, включает восприятие формы, величины, взаимного расположения объектов, рельефа, удаленности, направления. Результат - </a:t>
            </a:r>
            <a:r>
              <a:rPr b="0" i="1" lang="ru-RU" sz="2000" spc="-1" strike="noStrike">
                <a:solidFill>
                  <a:srgbClr val="003366"/>
                </a:solidFill>
                <a:latin typeface="Comic Sans MS"/>
              </a:rPr>
              <a:t>образы 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предметов и явлений окружающего мира, их внешних свойств (А.В. Петровский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69800" y="2666880"/>
            <a:ext cx="867420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На основе образов восприятия складываются вторичные образы - </a:t>
            </a:r>
            <a:r>
              <a:rPr b="0" i="1" lang="ru-RU" sz="2000" spc="-1" strike="noStrike">
                <a:solidFill>
                  <a:srgbClr val="003366"/>
                </a:solidFill>
                <a:latin typeface="Comic Sans MS"/>
              </a:rPr>
              <a:t>образы представления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, они схематизируются и обобщаются в процессе мышл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" y="3429000"/>
            <a:ext cx="8915400" cy="7333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omic Sans MS"/>
              </a:rPr>
              <a:t>Представление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 - образ, возникающий в индивидуальном сознании, сохраняемый и воспроизводимый без непосредственного воздействия предметов на органы чувств.</a:t>
            </a:r>
            <a:r>
              <a:rPr b="0" lang="ru-RU" sz="18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200" y="4191120"/>
            <a:ext cx="8686800" cy="1159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omic Sans MS"/>
              </a:rPr>
              <a:t>Пространственные представления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 - представления о пространственных и пространственно-временных  свойствах и отношениях, величине, форме, относительном расположении объектов, их поступательном и вращательном движении (Ю.М. Горвиц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CA02A-EC51-4325-92E2-E39D2556CF99}" type="slidenum">
              <a:t>18</a:t>
            </a:fld>
          </a:p>
        </p:txBody>
      </p:sp>
    </p:spTree>
  </p:cSld>
  <p:transition>
    <p:checker dir="horz"/>
  </p:transition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0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Comic Sans MS"/>
              </a:rPr>
              <a:t>Генезис пространственных представлений у детей</a:t>
            </a:r>
            <a:endParaRPr b="0" lang="en-US" sz="2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458200" cy="16002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Comic Sans MS"/>
              </a:rPr>
              <a:t>Обозначение пространственных отношений словом ведет к их вычленению, абстрагированию и обобщению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Comic Sans MS"/>
              </a:rPr>
              <a:t>К 4 годам</a:t>
            </a:r>
            <a:r>
              <a:rPr b="0" lang="ru-RU" sz="2200" spc="-1" strike="noStrike">
                <a:solidFill>
                  <a:srgbClr val="003366"/>
                </a:solidFill>
                <a:latin typeface="Comic Sans MS"/>
              </a:rPr>
              <a:t> - зрительный анализ формы. Дети научаются сопоставлять объекты, конструировать по расчлененному, и нерасчлененному образцу. 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228600" y="914400"/>
            <a:ext cx="4419720" cy="3753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Эксперименты Л.А. Венгера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дети способны различать форму геометрических фигур уже </a:t>
            </a:r>
            <a:r>
              <a:rPr b="1" lang="ru-RU" sz="2000" spc="-1" strike="noStrike">
                <a:solidFill>
                  <a:srgbClr val="003366"/>
                </a:solidFill>
                <a:latin typeface="Comic Sans MS"/>
              </a:rPr>
              <a:t>с двух месяцев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К </a:t>
            </a:r>
            <a:r>
              <a:rPr b="1" lang="ru-RU" sz="2000" spc="-1" strike="noStrike">
                <a:solidFill>
                  <a:srgbClr val="003366"/>
                </a:solidFill>
                <a:latin typeface="Comic Sans MS"/>
              </a:rPr>
              <a:t>9 месяцам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 - приспособление положения пальцев руки ребенка к форме предмет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Разрыв между возможностями различения формы и возможностью ориентировки на нее в практической деятельност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1752480"/>
            <a:ext cx="4038480" cy="375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Comic Sans MS"/>
              </a:rPr>
              <a:t>На втором году жизни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 - познают удаленность и местоположение предметов на основе мышечного чувства, к которому присоединяются зрительные ощущени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Ребенок правильно действует с предметами, находящимися в различных пространственных отношениях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2C202-9240-49D8-8BD1-F87C97A834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0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2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2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2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2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2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2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2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2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2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20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10920" y="549000"/>
            <a:ext cx="74898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Comic Sans MS"/>
              </a:rPr>
              <a:t>Содержание дошкольного образования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Comic Sans MS"/>
              </a:rPr>
              <a:t>должно лежать в 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сфере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субъектного опыта ребенка</a:t>
            </a:r>
            <a:r>
              <a:rPr b="0" lang="ru-RU" sz="3200" spc="-1" strike="noStrike">
                <a:solidFill>
                  <a:srgbClr val="003366"/>
                </a:solidFill>
                <a:latin typeface="Comic Sans MS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Comic Sans MS"/>
              </a:rPr>
              <a:t>охватывать как 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привычные</a:t>
            </a:r>
            <a:r>
              <a:rPr b="0" lang="ru-RU" sz="3200" spc="-1" strike="noStrike">
                <a:solidFill>
                  <a:srgbClr val="003366"/>
                </a:solidFill>
                <a:latin typeface="Comic Sans MS"/>
              </a:rPr>
              <a:t> для него 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области действительности</a:t>
            </a:r>
            <a:r>
              <a:rPr b="0" lang="ru-RU" sz="3200" spc="-1" strike="noStrike">
                <a:solidFill>
                  <a:srgbClr val="003366"/>
                </a:solidFill>
                <a:latin typeface="Comic Sans MS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Comic Sans MS"/>
              </a:rPr>
              <a:t>так и 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новые</a:t>
            </a:r>
            <a:r>
              <a:rPr b="0" lang="ru-RU" sz="3200" spc="-1" strike="noStrike">
                <a:solidFill>
                  <a:srgbClr val="003366"/>
                </a:solidFill>
                <a:latin typeface="Comic Sans MS"/>
              </a:rPr>
              <a:t>, далекие от привычных,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Comic Sans MS"/>
              </a:rPr>
              <a:t>своей необычностью вызывающие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живой интерес</a:t>
            </a:r>
            <a:r>
              <a:rPr b="0" lang="ru-RU" sz="3200" spc="-1" strike="noStrike">
                <a:solidFill>
                  <a:srgbClr val="003366"/>
                </a:solidFill>
                <a:latin typeface="Comic Sans MS"/>
              </a:rPr>
              <a:t> детей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6B80-CC50-45E1-9DA7-EE431FA4C0A0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152280" y="4267080"/>
            <a:ext cx="8686800" cy="2286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Comic Sans MS"/>
              </a:rPr>
              <a:t>В старшем дошкольном возрасте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 усвоение слов-обозначений пространственных отношений приводит к пониманию относительности пространственных отношений</a:t>
            </a:r>
            <a:r>
              <a:rPr b="0" i="1" lang="ru-RU" sz="20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Comic Sans MS"/>
              </a:rPr>
              <a:t>Исследования Л.А. Венгера, Р. Говоровой, В.С. Мухиной: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 в процессе обучения, при котором дети 4-5 лет сами меняют пространственные отношения между предметами, рассматривают их с разных позиций, обозначают словесно и графически, ориентировка с изменением точки отсчета формируется сравнительно легко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Comic Sans MS"/>
              </a:rPr>
              <a:t>Генезис пространственных представлений у детей</a:t>
            </a:r>
            <a:endParaRPr b="0" lang="en-US" sz="2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55" name=""/>
          <p:cNvSpPr/>
          <p:nvPr/>
        </p:nvSpPr>
        <p:spPr>
          <a:xfrm>
            <a:off x="152280" y="609480"/>
            <a:ext cx="8763120" cy="34480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Comic Sans MS"/>
              </a:rPr>
              <a:t>Т. Мусейибова: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Comic Sans MS"/>
              </a:rPr>
              <a:t>общий путь развития у детей процесса отражения пространства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- диффузное нерасчлененное восприятие пространства, на фоне которого выделяются лишь отдельные объекты вне пространственных отношений между ним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- на основе представлений об основных пространственных направлениях пространство начинает дробиться по основным линиям (вертикальной, фронтальной и сагиттальной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с увеличением площади выделенных участков в длину и ширину они постепенно смыкаются, формируя общее представление о местности как о едином непрерывном пространстве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7BDDB-FB4F-492C-9426-C54E9CFD33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0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9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2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2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2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2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2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2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2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853452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ff"/>
                </a:solidFill>
                <a:latin typeface="Comic Sans MS"/>
              </a:rPr>
              <a:t>Графические умения и графические навыки</a:t>
            </a:r>
            <a:endParaRPr b="0" lang="en-US" sz="27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3240" y="7389720"/>
            <a:ext cx="8955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152280" y="990720"/>
            <a:ext cx="856944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ff"/>
                </a:solidFill>
                <a:latin typeface="Comic Sans MS"/>
              </a:rPr>
              <a:t>Графические навыки</a:t>
            </a:r>
            <a:r>
              <a:rPr b="0" lang="ru-RU" sz="2400" spc="-1" strike="noStrike">
                <a:solidFill>
                  <a:srgbClr val="003366"/>
                </a:solidFill>
                <a:latin typeface="Comic Sans MS"/>
              </a:rPr>
              <a:t> – это определенные привычные положения и движения пишущей (рисующей) руки, позволяющие изображать знаки и их соедин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28600" y="2895480"/>
            <a:ext cx="8642520" cy="1584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ff"/>
                </a:solidFill>
                <a:latin typeface="Comic Sans MS"/>
              </a:rPr>
              <a:t>Умения</a:t>
            </a:r>
            <a:r>
              <a:rPr b="1" lang="ru-RU" sz="2400" spc="-1" strike="noStrike">
                <a:solidFill>
                  <a:srgbClr val="ff00ff"/>
                </a:solidFill>
                <a:latin typeface="Comic Sans MS"/>
              </a:rPr>
              <a:t> –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Comic Sans MS"/>
              </a:rPr>
              <a:t>это сплав навыков и знаний, который определяет качество выполнения графической деятельности; это более сложное образование, чем навык или знания, взятые в отдельно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0920" y="4869000"/>
            <a:ext cx="8642160" cy="16556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ff"/>
                </a:solidFill>
                <a:latin typeface="Comic Sans MS"/>
              </a:rPr>
              <a:t>Графические умения</a:t>
            </a:r>
            <a:r>
              <a:rPr b="0" lang="ru-RU" sz="2400" spc="-1" strike="noStrike">
                <a:solidFill>
                  <a:srgbClr val="ff00ff"/>
                </a:solidFill>
                <a:latin typeface="Comic Sans MS"/>
              </a:rPr>
              <a:t> -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Comic Sans MS"/>
              </a:rPr>
              <a:t>сложный комплекс, включающий формирование зрительно-моторной координации, восприятие фигуро-фоновых отношений, положения в пространстве и др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A6D36-1017-48D6-B4E7-8EC8F3E04F21}" type="slidenum">
              <a:t>21</a:t>
            </a:fld>
          </a:p>
        </p:txBody>
      </p:sp>
    </p:spTree>
  </p:cSld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0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1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Comic Sans MS"/>
              </a:rPr>
              <a:t>Как взаимосвязаны пространственные представления и графические умения?</a:t>
            </a:r>
            <a:endParaRPr b="0" lang="en-US" sz="2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" y="1066680"/>
            <a:ext cx="2133720" cy="914400"/>
          </a:xfrm>
          <a:prstGeom prst="downArrowCallout">
            <a:avLst>
              <a:gd name="adj1" fmla="val 25001"/>
              <a:gd name="adj2" fmla="val 58337"/>
              <a:gd name="adj3" fmla="val 23333"/>
              <a:gd name="adj4" fmla="val 6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Comic Sans MS"/>
              </a:rPr>
              <a:t>Пространственные представле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895480" y="990720"/>
            <a:ext cx="3353040" cy="1904760"/>
          </a:xfrm>
          <a:prstGeom prst="leftRightArrow">
            <a:avLst>
              <a:gd name="adj1" fmla="val 63889"/>
              <a:gd name="adj2" fmla="val 36877"/>
            </a:avLst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omic Sans MS"/>
              </a:rPr>
              <a:t>форм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omic Sans MS"/>
              </a:rPr>
              <a:t>относительное расположение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omic Sans MS"/>
              </a:rPr>
              <a:t>величин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omic Sans MS"/>
              </a:rPr>
              <a:t>расстоя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" y="3429000"/>
            <a:ext cx="2971800" cy="838080"/>
          </a:xfrm>
          <a:prstGeom prst="rightArrowCallout">
            <a:avLst>
              <a:gd name="adj1" fmla="val 25002"/>
              <a:gd name="adj2" fmla="val 25000"/>
              <a:gd name="adj3" fmla="val 59099"/>
              <a:gd name="adj4" fmla="val 66667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Comic Sans MS"/>
              </a:rPr>
              <a:t>Образ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Comic Sans MS"/>
              </a:rPr>
              <a:t>представле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715000" y="3429000"/>
            <a:ext cx="2971800" cy="838080"/>
          </a:xfrm>
          <a:prstGeom prst="leftArrowCallout">
            <a:avLst>
              <a:gd name="adj1" fmla="val 25002"/>
              <a:gd name="adj2" fmla="val 25000"/>
              <a:gd name="adj3" fmla="val 59099"/>
              <a:gd name="adj4" fmla="val 66673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Comic Sans MS"/>
              </a:rPr>
              <a:t>Графические изображе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4495680"/>
            <a:ext cx="3048120" cy="2133720"/>
          </a:xfrm>
          <a:prstGeom prst="upArrowCallout">
            <a:avLst>
              <a:gd name="adj1" fmla="val 17012"/>
              <a:gd name="adj2" fmla="val 35714"/>
              <a:gd name="adj3" fmla="val 14287"/>
              <a:gd name="adj4" fmla="val 4285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omic Sans MS"/>
              </a:rPr>
              <a:t>Восприятие объект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omic Sans MS"/>
              </a:rPr>
              <a:t>Определение свойст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omic Sans MS"/>
              </a:rPr>
              <a:t>Называние свойст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omic Sans MS"/>
              </a:rPr>
              <a:t>Воспроизведение объект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omic Sans MS"/>
              </a:rPr>
              <a:t>Преобразование</a:t>
            </a:r>
            <a:r>
              <a:rPr b="0" lang="ru-RU" sz="1800" spc="-1" strike="noStrike">
                <a:solidFill>
                  <a:srgbClr val="003366"/>
                </a:solidFill>
                <a:latin typeface="Comic Sans MS"/>
              </a:rPr>
              <a:t> объект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553080" y="1066680"/>
            <a:ext cx="2133720" cy="914400"/>
          </a:xfrm>
          <a:prstGeom prst="downArrowCallout">
            <a:avLst>
              <a:gd name="adj1" fmla="val 25001"/>
              <a:gd name="adj2" fmla="val 58337"/>
              <a:gd name="adj3" fmla="val 23333"/>
              <a:gd name="adj4" fmla="val 6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Comic Sans MS"/>
              </a:rPr>
              <a:t>Графические уме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7200" y="2057400"/>
            <a:ext cx="2133720" cy="1219320"/>
          </a:xfrm>
          <a:prstGeom prst="downArrowCallout">
            <a:avLst>
              <a:gd name="adj1" fmla="val 18749"/>
              <a:gd name="adj2" fmla="val 43748"/>
              <a:gd name="adj3" fmla="val 23333"/>
              <a:gd name="adj4" fmla="val 66667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Реальные объекты, их свойства и отноше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553080" y="2057400"/>
            <a:ext cx="2133720" cy="1219320"/>
          </a:xfrm>
          <a:prstGeom prst="downArrowCallout">
            <a:avLst>
              <a:gd name="adj1" fmla="val 18749"/>
              <a:gd name="adj2" fmla="val 43748"/>
              <a:gd name="adj3" fmla="val 23333"/>
              <a:gd name="adj4" fmla="val 66667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Графическая информация об объекта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200400" y="4495680"/>
            <a:ext cx="2743200" cy="2133720"/>
          </a:xfrm>
          <a:prstGeom prst="upArrowCallout">
            <a:avLst>
              <a:gd name="adj1" fmla="val 15310"/>
              <a:gd name="adj2" fmla="val 32141"/>
              <a:gd name="adj3" fmla="val 14287"/>
              <a:gd name="adj4" fmla="val 4285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omic Sans MS"/>
              </a:rPr>
              <a:t>Создание образ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omic Sans MS"/>
              </a:rPr>
              <a:t>Мысленное оперирован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omic Sans MS"/>
              </a:rPr>
              <a:t>Перекодирование</a:t>
            </a:r>
            <a:r>
              <a:rPr b="0" lang="ru-RU" sz="18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95880" y="4495680"/>
            <a:ext cx="3048120" cy="2133720"/>
          </a:xfrm>
          <a:prstGeom prst="upArrowCallout">
            <a:avLst>
              <a:gd name="adj1" fmla="val 17012"/>
              <a:gd name="adj2" fmla="val 35714"/>
              <a:gd name="adj3" fmla="val 14287"/>
              <a:gd name="adj4" fmla="val 4285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omic Sans MS"/>
              </a:rPr>
              <a:t>Чтение информаци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omic Sans MS"/>
              </a:rPr>
              <a:t>Анализ графического состав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omic Sans MS"/>
              </a:rPr>
              <a:t>Определение объект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omic Sans MS"/>
              </a:rPr>
              <a:t>Называние объект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omic Sans MS"/>
              </a:rPr>
              <a:t>Создание изображе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omic Sans MS"/>
              </a:rPr>
              <a:t>Преобразование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581280" y="3429000"/>
            <a:ext cx="2057400" cy="76212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Comic Sans MS"/>
              </a:rPr>
              <a:t>Пространственное мышлен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B725E-8D84-4A0B-94A5-DD56CF4607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0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Comic Sans MS"/>
              </a:rPr>
              <a:t>Графические умения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795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Comic Sans MS"/>
              </a:rPr>
              <a:t>1 группа. Анализ пространственных признаков и отношений реальных предметов и их частей.</a:t>
            </a: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Comic Sans MS"/>
              </a:rPr>
              <a:t>2 группа. Декодирование графической информации (чтение графических изображений).</a:t>
            </a: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Comic Sans MS"/>
              </a:rPr>
              <a:t>3 группа.</a:t>
            </a: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Comic Sans MS"/>
              </a:rPr>
              <a:t>Кодирование графической информации (создание изображений).</a:t>
            </a: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Comic Sans MS"/>
              </a:rPr>
              <a:t>4 группа. Преобразование графической информации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996C-51D9-4A6C-86C9-CC3827C0BD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fill="hold">
                      <p:stCondLst>
                        <p:cond delay="0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500"/>
                            </p:stCondLst>
                            <p:childTnLst>
                              <p:par>
                                <p:cTn id="12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50560" y="151920"/>
            <a:ext cx="73054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ff"/>
                </a:solidFill>
                <a:latin typeface="Comic Sans MS"/>
              </a:rPr>
              <a:t>1 группа. Анализ пространственных признаков и отношений реальных предметов и их частей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7920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Анализ (выделение, называние), воспроизведение, преобразование формы предметов и их частей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Анализ (выделение, называние), воспроизведение, преобразование величины предметов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Анализ (выделение, называние), воспроизведение, преобразование пространственных отношений предметов и их частей (структуры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F7E9-6488-4B34-AAF5-1D1F8FEFF73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fill="hold">
                      <p:stCondLst>
                        <p:cond delay="0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500"/>
                            </p:stCondLst>
                            <p:childTnLst>
                              <p:par>
                                <p:cTn id="12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0560" y="151920"/>
            <a:ext cx="73054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ff"/>
                </a:solidFill>
                <a:latin typeface="Comic Sans MS"/>
              </a:rPr>
              <a:t>2 группа. Декодирование графической информации (чтение графических изображений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76000" y="1599840"/>
            <a:ext cx="74883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Определение и называние вида графического изображения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Определение, называние свойств изображенных объектов и их частей (форма, величина, количество, пространственное расположение)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Анализ графического состава изображений (виды линий)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Конструирование по графическому изображению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0EDC-C73F-46DA-8532-B76903331E7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0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500"/>
                            </p:stCondLst>
                            <p:childTnLst>
                              <p:par>
                                <p:cTn id="13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956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ff"/>
                </a:solidFill>
                <a:latin typeface="Comic Sans MS"/>
              </a:rPr>
              <a:t>3 группа.</a:t>
            </a:r>
            <a:r>
              <a:rPr b="0" lang="ru-RU" sz="28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ff00ff"/>
                </a:solidFill>
                <a:latin typeface="Comic Sans MS"/>
              </a:rPr>
              <a:t>Кодирование графической информации (создание изображений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371240" y="1844640"/>
            <a:ext cx="7010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Осуществление основных графических операций (линии, формы и т.д.), использование чертежных инструментов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Создание изображения конструкции, модели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Координация движений руки и глаз (зрительно-моторная координация)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E1DF-18A7-44CD-9856-5823D458E74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0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500"/>
                            </p:stCondLst>
                            <p:childTnLst>
                              <p:par>
                                <p:cTn id="13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4920" y="152280"/>
            <a:ext cx="67690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ff"/>
                </a:solidFill>
                <a:latin typeface="Comic Sans MS"/>
              </a:rPr>
              <a:t>4 группа. Преобразование графической информации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28360" y="1834920"/>
            <a:ext cx="734364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Преобразование изображений (форма, величина, количество, пространственное расположение объектов и их частей)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85000" indent="-58500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Преобразование конструкций на основе преобразования изображений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31E5-FDBD-4C6A-AA0E-C5FAA4BC921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0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500"/>
                            </p:stCondLst>
                            <p:childTnLst>
                              <p:par>
                                <p:cTn id="13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8600" y="189000"/>
            <a:ext cx="86868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ff"/>
                </a:solidFill>
                <a:latin typeface="Comic Sans MS"/>
              </a:rPr>
              <a:t>Как развиваются графические умения у детей?</a:t>
            </a:r>
            <a:endParaRPr b="0" lang="en-US" sz="26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84" name=""/>
          <p:cNvSpPr/>
          <p:nvPr/>
        </p:nvSpPr>
        <p:spPr>
          <a:xfrm>
            <a:off x="228600" y="838080"/>
            <a:ext cx="8642520" cy="130500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В изобразительной деятельности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 - обобщенные способы изображения, выявление и фиксация свойств предметов, овладение движениями рук и орудийными действиям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28600" y="2133720"/>
            <a:ext cx="8642520" cy="151272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В конструктивной деятельности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 - представления о конструкции предметов и свойствах их деталей, соотнесение размера и формы, планирование деятельности, создание конструкции с опорой на образец, на заданные условия, на собственный замысел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28600" y="3657600"/>
            <a:ext cx="8642520" cy="12970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Многие виды знаний, которые ребенок не может усвоить на основе словесного обозначения или в процессе организованных действий с предметами, он легко усваивает в виде действий с </a:t>
            </a: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графическими моделями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8600" y="5029200"/>
            <a:ext cx="8642520" cy="1512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Обобщенный и схематизированный характер представлений детей дошкольного возраста позволяет широко использовать </a:t>
            </a: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модели и схемы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 для их обучения и формирования понят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12D4D-3934-4B7E-ABAE-C26BE375B55C}" type="slidenum">
              <a:t>28</a:t>
            </a:fld>
          </a:p>
        </p:txBody>
      </p:sp>
    </p:spTree>
  </p:cSld>
  <p:timing>
    <p:tnLst>
      <p:par>
        <p:cTn id="1384" dur="indefinite" restart="never" nodeType="tmRoot">
          <p:childTnLst>
            <p:seq>
              <p:cTn id="1385" dur="indefinite" nodeType="mainSeq">
                <p:childTnLst>
                  <p:par>
                    <p:cTn id="1386" fill="hold">
                      <p:stCondLst>
                        <p:cond delay="0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500"/>
                            </p:stCondLst>
                            <p:childTnLst>
                              <p:par>
                                <p:cTn id="13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4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4500"/>
                            </p:stCondLst>
                            <p:childTnLst>
                              <p:par>
                                <p:cTn id="1406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7500"/>
                            </p:stCondLst>
                            <p:childTnLst>
                              <p:par>
                                <p:cTn id="1412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6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Comic Sans MS"/>
              </a:rPr>
              <a:t>Графические образы</a:t>
            </a:r>
            <a:endParaRPr b="0" lang="en-US" sz="28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52280" y="5409720"/>
            <a:ext cx="8839440" cy="1219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66"/>
                </a:solidFill>
                <a:latin typeface="Comic Sans MS"/>
              </a:rPr>
              <a:t>В школьном возрасте </a:t>
            </a:r>
            <a:r>
              <a:rPr b="1" lang="ru-RU" sz="2100" spc="-1" strike="noStrike">
                <a:solidFill>
                  <a:srgbClr val="ff00ff"/>
                </a:solidFill>
                <a:latin typeface="Comic Sans MS"/>
              </a:rPr>
              <a:t>графический образ</a:t>
            </a:r>
            <a:r>
              <a:rPr b="0" lang="ru-RU" sz="2100" spc="-1" strike="noStrike">
                <a:solidFill>
                  <a:srgbClr val="003366"/>
                </a:solidFill>
                <a:latin typeface="Comic Sans MS"/>
              </a:rPr>
              <a:t> выступает как представление о том, как предмет должен быть изображен, и включает зрительные образы предмета, представления о нем, двигательные представления о построении изображения. </a:t>
            </a:r>
            <a:endParaRPr b="0" lang="en-US" sz="21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0" name=""/>
          <p:cNvSpPr/>
          <p:nvPr/>
        </p:nvSpPr>
        <p:spPr>
          <a:xfrm>
            <a:off x="152280" y="304920"/>
            <a:ext cx="4496040" cy="192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Comic Sans MS"/>
              </a:rPr>
              <a:t>В.С. Мухина, Т.С. Комаро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Comic Sans MS"/>
              </a:rPr>
              <a:t>Графический образ</a:t>
            </a:r>
            <a:r>
              <a:rPr b="0" i="1" lang="ru-RU" sz="2000" spc="-1" strike="noStrike">
                <a:solidFill>
                  <a:srgbClr val="003366"/>
                </a:solidFill>
                <a:latin typeface="Comic Sans MS"/>
              </a:rPr>
              <a:t> -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 сочетание линий, которое в прошлом опыте ребенка обозначалось как какой-либо предмет; зрительно-двигательный образ предмет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52880" y="838080"/>
            <a:ext cx="4191120" cy="22284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Comic Sans MS"/>
              </a:rPr>
              <a:t>Линии в происхождении графических образов:</a:t>
            </a:r>
            <a:r>
              <a:rPr b="1" lang="ru-RU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buClr>
                <a:srgbClr val="0033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ребенок сам находит графические образы в процессе чиркани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buClr>
                <a:srgbClr val="0033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ребенок копирует образцы взрослых, подражает.</a:t>
            </a:r>
            <a:r>
              <a:rPr b="0" lang="ru-RU" sz="18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76920" y="3581280"/>
            <a:ext cx="4105080" cy="1923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Comic Sans MS"/>
              </a:rPr>
              <a:t>Виды графических образов:</a:t>
            </a:r>
            <a:r>
              <a:rPr b="0" lang="ru-RU" sz="2000" spc="-1" strike="noStrike">
                <a:solidFill>
                  <a:srgbClr val="ff00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176040">
              <a:lnSpc>
                <a:spcPct val="100000"/>
              </a:lnSpc>
              <a:buClr>
                <a:srgbClr val="0033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выражающие эталоны геометрических форм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176040">
              <a:lnSpc>
                <a:spcPct val="100000"/>
              </a:lnSpc>
              <a:buClr>
                <a:srgbClr val="0033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приближающиеся к реальным предмета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52280" y="2438280"/>
            <a:ext cx="4496040" cy="28382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Comic Sans MS"/>
              </a:rPr>
              <a:t>Графическая форма,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 которой дети изображают геометрические фигуры, </a:t>
            </a:r>
            <a:r>
              <a:rPr b="1" lang="ru-RU" sz="2000" spc="-1" strike="noStrike">
                <a:solidFill>
                  <a:srgbClr val="003366"/>
                </a:solidFill>
                <a:latin typeface="Comic Sans MS"/>
              </a:rPr>
              <a:t>определяется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имеющимися у ребенка графическими образами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зрительным впечатлением от реального объекта,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тактильно-моторным опытом действия с предметом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16FED-6DB3-44C3-8A92-F8AEBBF91CA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7" dur="indefinite" restart="never" nodeType="tmRoot">
          <p:childTnLst>
            <p:seq>
              <p:cTn id="1418" dur="indefinite" nodeType="mainSeq">
                <p:childTnLst>
                  <p:par>
                    <p:cTn id="1419" fill="hold">
                      <p:stCondLst>
                        <p:cond delay="0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9437-7113-44BE-B75D-BDCAA3CF350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79280" y="907920"/>
            <a:ext cx="3168720" cy="1800360"/>
          </a:xfrm>
          <a:prstGeom prst="flowChartPreparation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96000" y="907920"/>
            <a:ext cx="3168720" cy="1800360"/>
          </a:xfrm>
          <a:prstGeom prst="flowChartPreparat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43280" y="1844640"/>
            <a:ext cx="16574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35280" y="12682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ahoma"/>
              </a:rPr>
              <a:t>накопл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27280" y="2060640"/>
            <a:ext cx="20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ahoma"/>
              </a:rPr>
              <a:t>расшир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71640" y="4046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Tahoma"/>
              </a:rPr>
              <a:t>педаго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10280" y="5335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Tahoma"/>
              </a:rPr>
              <a:t>ребено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1404720" y="3417120"/>
            <a:ext cx="2488320" cy="2075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4000" y="5589720"/>
            <a:ext cx="2160360" cy="936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созна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56000" y="5589720"/>
            <a:ext cx="2232000" cy="9810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общи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59640" y="5589720"/>
            <a:ext cx="2233440" cy="1008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зафиксирова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3429000"/>
            <a:ext cx="0" cy="208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46280" y="3386520"/>
            <a:ext cx="2466000" cy="2100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56000" y="6093000"/>
            <a:ext cx="792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96000" y="6093000"/>
            <a:ext cx="792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5280" y="1413000"/>
            <a:ext cx="29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разовательный процес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40360" y="1125360"/>
            <a:ext cx="295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убъектный опыт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моционально-чувственн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циональн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66920" y="2565360"/>
            <a:ext cx="6408720" cy="2521080"/>
          </a:xfrm>
          <a:prstGeom prst="flowChartDecision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редства и способ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знания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еобразования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щения с мир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562720" y="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276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800"/>
                            </p:stCondLst>
                            <p:childTnLst>
                              <p:par>
                                <p:cTn id="1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8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3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8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300"/>
                            </p:stCondLst>
                            <p:childTnLst>
                              <p:par>
                                <p:cTn id="1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350"/>
                            </p:stCondLst>
                            <p:childTnLst>
                              <p:par>
                                <p:cTn id="1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350"/>
                            </p:stCondLst>
                            <p:childTnLst>
                              <p:par>
                                <p:cTn id="1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700"/>
                            </p:stCondLst>
                            <p:childTnLst>
                              <p:par>
                                <p:cTn id="1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700"/>
                            </p:stCondLst>
                            <p:childTnLst>
                              <p:par>
                                <p:cTn id="19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3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Comic Sans MS"/>
              </a:rPr>
              <a:t>Генезис графических умений у детей</a:t>
            </a:r>
            <a:r>
              <a:rPr b="0" lang="ru-RU" sz="4000" spc="-1" strike="noStrike">
                <a:solidFill>
                  <a:srgbClr val="cc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599840" y="4114440"/>
            <a:ext cx="7543800" cy="2438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Comic Sans MS"/>
              </a:rPr>
              <a:t>С 3 лет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 линии более определенные, менее разбросанные, не повторяются бессмысленно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От неотрывного движения - к раздельным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Отдельные линии приобретают разнообразный характер: закругляются, ломаются под углом, перекрещиваются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Увеличивается координация при выполнении вертикальных движений, но плохо выполняются имитационные движения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6" name=""/>
          <p:cNvSpPr/>
          <p:nvPr/>
        </p:nvSpPr>
        <p:spPr>
          <a:xfrm>
            <a:off x="457200" y="609480"/>
            <a:ext cx="7924680" cy="2170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Comic Sans MS"/>
              </a:rPr>
              <a:t>В 1-1,5 года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 - крепко зажимает карандаш в ладони - это ограничивает движени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Штрихи на бумаге прерывающиеся. Постепенно рука крепнет, движения становятся более энергичными, повторяющимис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Ребенок двигает рукой туда – обратно, не отрывая карандаш от бумаги. В результате - пучки дугообразных штрих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90720" y="2514600"/>
            <a:ext cx="7848360" cy="16196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Comic Sans MS"/>
              </a:rPr>
              <a:t>В 2-3 года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 - держит карандаш сверху, зажимает в ладони - это позволяет выполнять довольно сложные движени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Ребенок изменяет направление штрихов, располагая их по-разному на бумаге, изменяется характер движений (прямолинейные, дугообразные, вращательные – в результате получаются мотки, спирали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C6A19-DFBF-4FA7-9771-883BA44B14D5}" type="slidenum">
              <a:t>30</a:t>
            </a:fld>
          </a:p>
        </p:txBody>
      </p:sp>
    </p:spTree>
  </p:cSld>
  <p:transition>
    <p:checker dir="horz"/>
  </p:transition>
  <p:timing>
    <p:tnLst>
      <p:par>
        <p:cTn id="1466" dur="indefinite" restart="never" nodeType="tmRoot">
          <p:childTnLst>
            <p:seq>
              <p:cTn id="1467" dur="indefinite" nodeType="mainSeq">
                <p:childTnLst>
                  <p:par>
                    <p:cTn id="1468" fill="hold">
                      <p:stCondLst>
                        <p:cond delay="0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Comic Sans MS"/>
              </a:rPr>
              <a:t>Генезис графических умений у детей</a:t>
            </a:r>
            <a:endParaRPr b="0" lang="en-US" sz="28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0" y="5257440"/>
            <a:ext cx="9144000" cy="1600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Comic Sans MS"/>
              </a:rPr>
              <a:t>К моменту перехода в школу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 дети должны свободно владеть карандашом и кистью, регулировать свои движения при рисовании в отношении размаха, темпа, силы нажима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Движения должны быть легкими, плавными, равномерными, слитными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685800"/>
            <a:ext cx="9144000" cy="14392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Comic Sans MS"/>
              </a:rPr>
              <a:t>В 4 года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 - умеет держать карандаш правильно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Совершенствуется координация движений и зрительно-пространственное восприятие - это позволяет хорошо копировать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Дети умеют передавать пропорции фигур, ограничивать протяженность линий, рисовать относительно параллельные лин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2133720"/>
            <a:ext cx="9144000" cy="192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Comic Sans MS"/>
              </a:rPr>
              <a:t>В 5 лет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 хорошо выполняются горизонтальные и вертикальные штрих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Ребенок способен ограничить длину штриха, линии ровные, четкие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Дети могут менять положение руки соответственно характеру движения при рисовании прямых, дугообразных, волнистых и зигзагообразных линий, различных форм округлого и прямолинейного контура, широких и узких поло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3809880"/>
            <a:ext cx="9144000" cy="1683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Comic Sans MS"/>
              </a:rPr>
              <a:t>В 6 лет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 - хорошо копируют геометрические фигуры, соблюдая их размер, пропорци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Детям доступны любые графические движения, штрихи и лини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Осваивают движения, быстро изменяющие направление на противоположное (завитки, петли-восьмерки, криволинейные формы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B1C37-80E9-4C42-8960-7FB6075DFBB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3" dur="indefinite" restart="never" nodeType="tmRoot">
          <p:childTnLst>
            <p:seq>
              <p:cTn id="1524" dur="indefinite" nodeType="mainSeq">
                <p:childTnLst>
                  <p:par>
                    <p:cTn id="1525" fill="hold">
                      <p:stCondLst>
                        <p:cond delay="0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Comic Sans MS"/>
              </a:rPr>
              <a:t>Выводы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В процессе выполнения разнообразных практических действий дети дошкольного возраста овладевают некоторыми графическими умениями: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учатся выделять, анализировать форму предметов, их пространственное расположение, величину;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осваивают обобщенные способы изображения предметов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учатся создавать различные конструкции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Однако при этом реализуются далеко не все возможности детей в овладении ими элементами графической грамоты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3032-1985-4ACC-9D4E-0FE3A5252F52}" type="slidenum">
              <a:t>32</a:t>
            </a:fld>
          </a:p>
        </p:txBody>
      </p:sp>
    </p:spTree>
  </p:cSld>
  <p:transition>
    <p:checker dir="horz"/>
  </p:transition>
  <p:timing>
    <p:tnLst>
      <p:par>
        <p:cTn id="1576" dur="indefinite" restart="never" nodeType="tmRoot">
          <p:childTnLst>
            <p:seq>
              <p:cTn id="1577" dur="indefinite" nodeType="mainSeq">
                <p:childTnLst>
                  <p:par>
                    <p:cTn id="1578" fill="hold">
                      <p:stCondLst>
                        <p:cond delay="0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fill="hold">
                            <p:stCondLst>
                              <p:cond delay="500"/>
                            </p:stCondLst>
                            <p:childTnLst>
                              <p:par>
                                <p:cTn id="15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1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1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6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7A71-9C17-4BDD-A0AE-22760B6B5E6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omic Sans MS"/>
              </a:rPr>
              <a:t>Средства и способы познания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179280" y="765000"/>
            <a:ext cx="2160720" cy="2232360"/>
          </a:xfrm>
          <a:prstGeom prst="flowChartDocumen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средства познан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талон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дел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чь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 т.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60360" y="1341360"/>
            <a:ext cx="3311640" cy="3456000"/>
          </a:xfrm>
          <a:prstGeom prst="flowChartDocumen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способы познан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блюд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следование предмет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кспериментирова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делирова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пособы логического познан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анализ, синтез, обобщение, сравнение, классификация и т.д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67280" y="2276640"/>
            <a:ext cx="3095640" cy="3887640"/>
          </a:xfrm>
          <a:prstGeom prst="flowChart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средства и способы преобразования действи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становка цел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бор средст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анировани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ализац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трол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ценка и коррекц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зультат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88000" y="3141720"/>
            <a:ext cx="2376720" cy="3382920"/>
          </a:xfrm>
          <a:prstGeom prst="flowChartDocumen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средства и способы эмоционально-ценностного общен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миром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язык эмоций мимики пантомими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925"/>
                            </p:stCondLst>
                            <p:childTnLst>
                              <p:par>
                                <p:cTn id="2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350"/>
                            </p:stCondLst>
                            <p:childTnLst>
                              <p:par>
                                <p:cTn id="2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50"/>
                            </p:stCondLst>
                            <p:childTnLst>
                              <p:par>
                                <p:cTn id="2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31FE-5BAB-4098-8B46-EBCD9C0A584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50920" y="476280"/>
            <a:ext cx="8641080" cy="4339440"/>
            <a:chOff x="250920" y="476280"/>
            <a:chExt cx="8641080" cy="4339440"/>
          </a:xfrm>
        </p:grpSpPr>
        <p:sp>
          <p:nvSpPr>
            <p:cNvPr id="232" name="_s66564"/>
            <p:cNvSpPr/>
            <p:nvPr/>
          </p:nvSpPr>
          <p:spPr>
            <a:xfrm>
              <a:off x="3707640" y="476280"/>
              <a:ext cx="5184360" cy="431712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_s66565"/>
            <p:cNvSpPr/>
            <p:nvPr/>
          </p:nvSpPr>
          <p:spPr>
            <a:xfrm>
              <a:off x="4926960" y="1303920"/>
              <a:ext cx="3035520" cy="28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_s66566"/>
            <p:cNvSpPr/>
            <p:nvPr/>
          </p:nvSpPr>
          <p:spPr>
            <a:xfrm>
              <a:off x="250920" y="476280"/>
              <a:ext cx="5005440" cy="433944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_s66567"/>
            <p:cNvSpPr/>
            <p:nvPr/>
          </p:nvSpPr>
          <p:spPr>
            <a:xfrm>
              <a:off x="907560" y="1387080"/>
              <a:ext cx="3418560" cy="10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1042920" y="357336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ahoma"/>
              </a:rPr>
              <a:t>«могу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357336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ahoma"/>
              </a:rPr>
              <a:t>«хочу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5084640"/>
            <a:ext cx="9144000" cy="17596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Tahoma"/>
              </a:rPr>
              <a:t>Условие:</a:t>
            </a:r>
            <a:r>
              <a:rPr b="0" lang="ru-RU" sz="2800" spc="-1" strike="noStrike">
                <a:solidFill>
                  <a:srgbClr val="99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держание и процесс образован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моционально привлекательн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для детей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зывают яркие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зитивные интеллектуальные эмоци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6920" y="2241720"/>
            <a:ext cx="331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нформаци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б окружающем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ир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26920" y="134136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Средства и способ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познан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932360" y="213372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Желание учиться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знавать ми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150"/>
                            </p:stCondLst>
                            <p:childTnLst>
                              <p:par>
                                <p:cTn id="2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9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82436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ff"/>
                </a:solidFill>
                <a:latin typeface="Comic Sans MS"/>
              </a:rPr>
              <a:t>Что такое информационная компетентность?</a:t>
            </a:r>
            <a:endParaRPr b="0" lang="en-US" sz="33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23960" y="1413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интегративное качество личности, являющееся результатом отражения процессов отбора, усвоения, переработки, трансформации и генерирования информации в особый тип предметно-специфических знаний, позволяющее вырабатывать, принимать, прогнозировать и реализовывать оптимальные решения в различных сферах деятельности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00BF-A053-4F1D-895D-3BF4D60575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95280" y="799920"/>
            <a:ext cx="8569440" cy="56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omic Sans MS"/>
              </a:rPr>
              <a:t>Трудности в овладении графическими умениями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 связаны с недостаточным развитием мелкой моторики у детей 6–7 лет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Comic Sans MS"/>
              </a:rPr>
              <a:t>не закончено окостенение костей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 запястья и фаланг пальцев, слабо развиты мелкие мышцы рук, несовершенна нервная регуляция движений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Comic Sans MS"/>
              </a:rPr>
              <a:t>не сформированы механизмы пространственного восприятия и зрительной памяти, зрительно-моторной координации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Comic Sans MS"/>
              </a:rPr>
              <a:t>Дополнительные трудности: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3524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несформированность представлений о плоскости, рельефе и объеме, симметрии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3524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недостаточно развитые способности к переработке и трансформации одного вида информации в другой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3524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нечеткая ориентацию на листе, слабое чувство вертикали и горизонтали, формата, масштабности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3524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зеркальность восприятия и воспроизведения графических объектов (букв, цифр)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3524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затруднения при мысленном изменение пространственного расположения объектов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3524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неточное отражение в речи пространственной и графической терминологии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179280" y="152280"/>
            <a:ext cx="80647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Comic Sans MS"/>
              </a:rPr>
              <a:t>Школьные трудности – в чем их причины?</a:t>
            </a:r>
            <a:endParaRPr b="0" lang="en-US" sz="28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8AB9F-A48E-43B5-9EBB-A025208EC1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4000"/>
                            </p:stCondLst>
                            <p:childTnLst>
                              <p:par>
                                <p:cTn id="3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6000"/>
                            </p:stCondLst>
                            <p:childTnLst>
                              <p:par>
                                <p:cTn id="3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Comic Sans MS"/>
              </a:rPr>
              <a:t>Язык графики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94920" y="456840"/>
            <a:ext cx="8450280" cy="145908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Comic Sans MS"/>
              </a:rPr>
              <a:t>Средства языка графики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система символов, знаков, замещающих реальные объекты, понятия о них, отношения и связи между ними.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8" name=""/>
          <p:cNvSpPr/>
          <p:nvPr/>
        </p:nvSpPr>
        <p:spPr>
          <a:xfrm>
            <a:off x="179280" y="5157720"/>
            <a:ext cx="8785440" cy="1557000"/>
          </a:xfrm>
          <a:prstGeom prst="rect">
            <a:avLst/>
          </a:prstGeom>
          <a:solidFill>
            <a:srgbClr val="ff99cc"/>
          </a:solidFill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omic Sans MS"/>
              </a:rPr>
              <a:t>Способ существования и проявления системы средств графики - </a:t>
            </a:r>
            <a:r>
              <a:rPr b="1" i="1" lang="ru-RU" sz="2400" spc="-1" strike="noStrike">
                <a:solidFill>
                  <a:srgbClr val="660066"/>
                </a:solidFill>
                <a:latin typeface="Comic Sans MS"/>
              </a:rPr>
              <a:t>графическое изображение</a:t>
            </a:r>
            <a:r>
              <a:rPr b="1" lang="ru-RU" sz="2400" spc="-1" strike="noStrike">
                <a:solidFill>
                  <a:srgbClr val="660066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omic Sans MS"/>
              </a:rPr>
              <a:t>В графических изображениях </a:t>
            </a:r>
            <a:r>
              <a:rPr b="1" i="1" lang="ru-RU" sz="2400" spc="-1" strike="noStrike">
                <a:solidFill>
                  <a:srgbClr val="003366"/>
                </a:solidFill>
                <a:latin typeface="Comic Sans MS"/>
              </a:rPr>
              <a:t>кодируется</a:t>
            </a:r>
            <a:r>
              <a:rPr b="0" lang="ru-RU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3366"/>
                </a:solidFill>
                <a:latin typeface="Comic Sans MS"/>
              </a:rPr>
              <a:t>информация</a:t>
            </a:r>
            <a:r>
              <a:rPr b="0" lang="ru-RU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omic Sans MS"/>
              </a:rPr>
              <a:t>о различных объектах, их признаках и отношениях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5640" y="2133720"/>
            <a:ext cx="2592360" cy="1079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omic Sans MS"/>
              </a:rPr>
              <a:t>средство общения люд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227640" y="2133720"/>
            <a:ext cx="2303640" cy="1079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omic Sans MS"/>
              </a:rPr>
              <a:t>структура знак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35280" y="3213000"/>
            <a:ext cx="2160720" cy="1152720"/>
          </a:xfrm>
          <a:prstGeom prst="flowChartDecision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Comic Sans MS"/>
              </a:rPr>
              <a:t>Функ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1280" y="4221000"/>
            <a:ext cx="2663640" cy="792360"/>
          </a:xfrm>
          <a:prstGeom prst="flowChartPreparation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omic Sans MS"/>
              </a:rPr>
              <a:t>коммуникативн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84720" y="4221000"/>
            <a:ext cx="2735280" cy="790560"/>
          </a:xfrm>
          <a:prstGeom prst="flowChartPreparation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omic Sans MS"/>
              </a:rPr>
              <a:t>познавательн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19640" y="4221000"/>
            <a:ext cx="2519280" cy="792360"/>
          </a:xfrm>
          <a:prstGeom prst="leftRightArrow">
            <a:avLst>
              <a:gd name="adj1" fmla="val 50000"/>
              <a:gd name="adj2" fmla="val 63295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Comic Sans MS"/>
              </a:rPr>
              <a:t>единообраз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64000" y="2349360"/>
            <a:ext cx="2376360" cy="648000"/>
          </a:xfrm>
          <a:custGeom>
            <a:avLst/>
            <a:gdLst>
              <a:gd name="textAreaLeft" fmla="*/ 297000 w 2376360"/>
              <a:gd name="textAreaRight" fmla="*/ 2079360 w 2376360"/>
              <a:gd name="textAreaTop" fmla="*/ 162000 h 648000"/>
              <a:gd name="textAreaBottom" fmla="*/ 486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ff"/>
                </a:solidFill>
                <a:latin typeface="Comic Sans MS"/>
              </a:rPr>
              <a:t>осуществлен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43280" y="2924280"/>
            <a:ext cx="1152360" cy="57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24360" y="3860640"/>
            <a:ext cx="1872000" cy="5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908000" y="3860640"/>
            <a:ext cx="1727280" cy="5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364000" y="2781360"/>
            <a:ext cx="122400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85863-175C-4BB2-B1FD-465F1A0D919B}" type="slidenum">
              <a:t>8</a:t>
            </a:fld>
          </a:p>
        </p:txBody>
      </p:sp>
    </p:spTree>
  </p:cSld>
  <p:transition>
    <p:checker dir="horz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4000"/>
                            </p:stCondLst>
                            <p:childTnLst>
                              <p:par>
                                <p:cTn id="4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4500"/>
                            </p:stCondLst>
                            <p:childTnLst>
                              <p:par>
                                <p:cTn id="4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500"/>
                            </p:stCondLst>
                            <p:childTnLst>
                              <p:par>
                                <p:cTn id="4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3000"/>
                            </p:stCondLst>
                            <p:childTnLst>
                              <p:par>
                                <p:cTn id="4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00ff"/>
                </a:solidFill>
                <a:latin typeface="Comic Sans MS"/>
              </a:rPr>
              <a:t>Графические изображения – </a:t>
            </a:r>
            <a:br>
              <a:rPr sz="3100"/>
            </a:br>
            <a:r>
              <a:rPr b="1" lang="ru-RU" sz="3100" spc="-1" strike="noStrike">
                <a:solidFill>
                  <a:srgbClr val="ff00ff"/>
                </a:solidFill>
                <a:latin typeface="Comic Sans MS"/>
              </a:rPr>
              <a:t>что это?</a:t>
            </a:r>
            <a:endParaRPr b="0" lang="en-US" sz="31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70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Восприятие и переработка графической информации</a:t>
            </a:r>
            <a:r>
              <a:rPr b="0" lang="ru-RU" sz="2400" spc="-1" strike="noStrike">
                <a:solidFill>
                  <a:srgbClr val="003366"/>
                </a:solidFill>
                <a:latin typeface="Comic Sans MS"/>
              </a:rPr>
              <a:t> – сложный процесс, требующий участия таких психических процессов, как восприятие, память, мышление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Разнообразные графические изображения,</a:t>
            </a:r>
            <a:r>
              <a:rPr b="1" i="1" lang="ru-RU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состоящие из линий, штрихов и точек</a:t>
            </a:r>
            <a:r>
              <a:rPr b="0" lang="ru-RU" sz="2400" spc="-1" strike="noStrike">
                <a:solidFill>
                  <a:srgbClr val="003366"/>
                </a:solidFill>
                <a:latin typeface="Comic Sans MS"/>
              </a:rPr>
              <a:t>, построенные от руки, при помощи графических инструментов или типографским способом, окружают ребенка, включаются в различные виды детской деятельности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4982-4A17-4191-943B-BC725BE21AB9}" type="slidenum">
              <a:t>9</a:t>
            </a:fld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500"/>
                            </p:stCondLst>
                            <p:childTnLst>
                              <p:par>
                                <p:cTn id="5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rg</cp:lastModifiedBy>
  <dcterms:modified xsi:type="dcterms:W3CDTF">2008-05-06T05:34:05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